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2293-309D-4C60-BB8E-4ED40C74E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25B0-F637-425A-BC99-0848E608C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CEAE-6DE8-4C67-866B-D2F1DADDA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422F-B3FA-4837-AD87-6018BF00C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FB01-A0BE-4260-AD58-DA70AEE2B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7E48-134E-47C7-8923-1A7864B29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EFD5-B096-40DC-A473-48BE42AF0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420A-9438-401D-9DF8-F4627892F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7EE6-D8C9-4619-AC22-78A07C215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485E-395B-46FE-BD34-DC5502F3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4114-59CE-4FFA-B314-F829164C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E2D0-637D-4DF9-B103-1C08108A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42CC3-1958-4630-94C7-32BCF9A4F07A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eating AM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acid mine drainag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48320" y="3885840"/>
            <a:ext cx="41148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antha Bac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ellwood-An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11</a:t>
            </a:r>
            <a:r>
              <a:rPr b="0" lang="en-US" sz="3200" spc="-1" strike="noStrike" baseline="30000">
                <a:solidFill>
                  <a:srgbClr val="898989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gr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dure – size of sam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t leaves into equal size pie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ce leaves into circle the size of the bottom of the c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igh the sa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dure-Preparing the sam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ll cup with 150 milliliters of the AM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ce the leaves in the c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ce pH meter into the s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t sit for one minu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ord p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ver each sample with plastic wrap to prevent evapo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dure- Tri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28600" y="1676160"/>
            <a:ext cx="8610480" cy="46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eat process 3 more times for a total of 4 tri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eat for each type of leaf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eat with no leaves for contr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ord pH every 2 to 4 d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perimental Vari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different types of leav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6840" y="5331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perimental Group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ine need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ak lea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ple lea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7960" y="5331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trol Group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leav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rol Variabl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M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ken from same ar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me starting p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me turbid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me out of evapr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ea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ken from same tre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t into same size pie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d same 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librated before data t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insed between each samp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 Summary-Grap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2514600" y="60958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(in day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TextBox 4"/>
          <p:cNvSpPr/>
          <p:nvPr/>
        </p:nvSpPr>
        <p:spPr>
          <a:xfrm rot="16200000">
            <a:off x="-1457280" y="361152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" name="Chart 5" descr=""/>
          <p:cNvPicPr/>
          <p:nvPr/>
        </p:nvPicPr>
        <p:blipFill>
          <a:blip r:embed="rId1"/>
          <a:stretch/>
        </p:blipFill>
        <p:spPr>
          <a:xfrm>
            <a:off x="1292400" y="1670040"/>
            <a:ext cx="663876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e the leaves made any differ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y valid for short time fram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apo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ibration of the Ph met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that is very acidic is draining out of abandoned mi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xpensive treat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M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609480" y="144792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The water flowing from abandoned m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usually contains high levels of ir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pH around 2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reddish-brown in col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Caused by rocks contain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bundance of sulfide miner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380880" y="419112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acidic = Fe dissol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acidic  = Fe will sett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" name="Picture 4" descr="C:\Users\amf\Pictures\AMD pix\156.JPG"/>
          <p:cNvPicPr/>
          <p:nvPr/>
        </p:nvPicPr>
        <p:blipFill>
          <a:blip r:embed="rId1"/>
          <a:stretch/>
        </p:blipFill>
        <p:spPr>
          <a:xfrm>
            <a:off x="5105520" y="3657600"/>
            <a:ext cx="37591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MD Treat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ed wetla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mical treat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mest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te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C:\Users\amf\Pictures\AMD pix\156.JPG"/>
          <p:cNvPicPr/>
          <p:nvPr/>
        </p:nvPicPr>
        <p:blipFill>
          <a:blip r:embed="rId1"/>
          <a:stretch/>
        </p:blipFill>
        <p:spPr>
          <a:xfrm>
            <a:off x="4572000" y="3200400"/>
            <a:ext cx="37591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ine Need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stern white pine native to North Ame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on throughout Pennsylva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ually slightly acid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ak lea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ive to northern hemisp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mooth surf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ple lea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ive to Asia but found in North Ame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mooth surf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Hypothe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ak leaves will do better than the other leav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ugh test to determine are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t c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ll with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ce a piece of leaf in the c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t sit to see if it will sink or flo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this for each lea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3T15:38:57Z</dcterms:created>
  <dc:creator>Altoona Mirror</dc:creator>
  <dc:description/>
  <dc:language>en-US</dc:language>
  <cp:lastModifiedBy>student1219</cp:lastModifiedBy>
  <dcterms:modified xsi:type="dcterms:W3CDTF">2011-03-04T21:56:48Z</dcterms:modified>
  <cp:revision>105</cp:revision>
  <dc:subject/>
  <dc:title>Which leading brand of battery will last the longest?</dc:title>
</cp:coreProperties>
</file>